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B31-3486-428D-9FF3-56DBD262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03F-D445-447D-AE30-D4777993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CD7-40B2-42DC-9730-F3890708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D42-BB44-41D4-AD22-B5998FCB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163E-EDD9-48E6-9D5A-C9E6B694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ED00-3997-406D-BCC1-2129B05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53C-2809-4743-BC0D-247CFA3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E0B-518A-4010-8B36-F4B8FAF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EF7E-8972-47AC-BC8B-61FB7478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7E7B-CF87-4084-BC7C-55C874A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9AA1-FCC0-4BE9-B0E2-A4699FE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A30-6097-4258-9766-0BAAE82B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F0C-46BA-4F03-A52D-5384165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63CC-6044-4499-8354-1831A5F5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DEBE-A1A4-4299-ACAF-49549D03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8DD-F164-4F98-9606-B1EF2EBC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A243-5E1D-4DFD-823E-62EB84D3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513-1A66-4A08-8E1F-47C88FD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F2A-1C56-4A4B-A19A-A78839CB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991-E5D3-48E5-AEAE-9AFE421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8BA-F580-4A8F-9E47-19B7EA1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9B0-1D3F-4D4D-97F5-8D92FBD9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072-5A4E-4E1D-B055-A7383A9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955-C134-4FA6-90A9-BEFC104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8C3-1877-40A9-A1A2-F24BE8143EE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6518-57B4-4A28-BFD0-180DB40F18E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Powered C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Neil and Dev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fter 10 years, 25% of our useable water is gone because of car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if you do the math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40 years, all freshwater would be g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nclusion is obvious; water powered cars would do nothing but drain our drinkable water source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worlds water crisis would escalate uncontrollably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f the economy develops and people start using water powered vehicles worldwide, how would that effect the world water crisi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n the next slide is a diagram how water powered cars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t pretty much makes no s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main idea is how you can use half water, half gasoline to run your vehicle at highway speed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y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540 million people in the world drive c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a person refuels their tank from empty to full once a we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is 3 billion litres of gas used for cars a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ould reduce this by 50% by using half water and half gaso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ter Statis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0 Quintillion litres of freshwater on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ring that into perspective, that’s a 23 digit nu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nce salt water is not possible to be used, the only option is freshwater. It would be another blow to the already reducing water crisi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52480" y="7315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tists are currently working on an efficient way to make saltwater fresh and use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o this day, it costs to much money and until we are more desperate for water, it is not et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8:42:54Z</dcterms:created>
  <dc:creator>User</dc:creator>
  <dc:description/>
  <dc:language>en-US</dc:language>
  <cp:lastModifiedBy>User</cp:lastModifiedBy>
  <dcterms:modified xsi:type="dcterms:W3CDTF">2010-03-26T19:45:40Z</dcterms:modified>
  <cp:revision>4</cp:revision>
  <dc:subject/>
  <dc:title>Water Powered Cars</dc:title>
</cp:coreProperties>
</file>